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2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16A4-F563-4E38-B297-40B329ED99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A525-D28C-4C6E-A64F-5B0BD2A57A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BEF-7E52-47C6-AE99-7D2EE4E2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B17-1A2D-4FA6-8596-504D1F21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933-44A4-41B3-A32A-85ED7023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ACE-C2CB-42F9-AD96-11114695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5023-59E7-4E74-AFBE-BA804493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392D-4D71-4F24-BF1B-756D093D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4905-E4E9-43E3-A6F9-EE4D3412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20FE-301A-4800-A24B-7E971C62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8E34-8E75-4734-8695-D966D976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338B-48AA-4652-BF9F-2C302B35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3AE4-18C9-4D6A-9F06-CE39F8E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D18-30EB-44CC-BB11-113211A7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A4D9-338B-4CF7-BAD1-A1E7827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1C49-50C1-44CF-95E5-5F998FE2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FFF4-FB5A-4EFF-ABB7-5E7DC22C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A9C6-BD64-43EB-8D69-D6D383DF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EFEA-4368-41C9-947C-CB5E13C2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DDEF3-54DA-42F8-932D-A308A53A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F8492-BFD0-4C61-866A-18B42BCA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ABBE-BF5F-4F9E-B065-3B8C249A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3099-6C26-4228-B8B2-4261E4BD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ABC28-4119-415D-9865-68CF4156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965-B356-464C-92C2-F3D34E4F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16CC9-036E-44F8-AC9C-C9D7DBF5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FC03C-1E76-41D2-A06F-73C7FCA8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C454-66CB-4AAB-BA48-B9899143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B143-0FE4-4C74-8EDA-F4E191DE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9C7F-022D-48EA-AB16-3527ED76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494E5-CE76-422D-ABDB-9E1932BF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B4BA6-CFB0-4C38-BB2D-21A369D3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B1DFC-2529-44E2-9FF4-919DA02A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98C3-C022-441C-93EE-E58CCD46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A8777-5338-4889-A54B-CF83853A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F24C-D1D2-49FA-B1D6-FD5D5AE8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C2C2F-4EDE-47D0-BCB1-742FA779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67456-F3CF-42D4-9402-B3B7F3E4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E795A-20C7-4EC5-881D-ABB9970C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D940-6409-4150-80AF-C73C5590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87433-A7FF-4406-A961-96BF2E85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64911-AE16-40C3-95CF-E857D78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D63D3-0465-4E19-9F71-41F07BC5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B552-3BC9-4AB4-B4E4-9A8D0266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04A98-751C-4F4F-8F6B-728375E3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8CCD3-AD61-44DE-B256-7EBBAA57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11A-1A88-4030-BBEA-B86A6AFB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AFFB7-4BB1-4F41-B531-DE8BA2D4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120CB-E101-4EDD-9159-2BD7A0A6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4F593-B1BD-458E-93C7-C036BCAB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6E93B-E4D6-4582-AEB9-01A7BC4D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1FDD4-E71B-4868-8B09-5C4C59C4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2AEA8-C04D-4FDA-A990-F15C9E8C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04E2E-AC6F-4F14-A45F-CEA899FA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549C-0F03-4DD4-BACB-64249492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F5A1D-A928-4004-AE7B-92E06A51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0DD22-9991-40E2-AB7D-4DF89F56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E08-06E9-45C3-8E54-30AD3CE7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41CC8-31F6-4908-8991-74E0C9B0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E71D5-35E5-4193-B0D3-90C386B9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EAEF-C309-4DDC-A7A7-956B30B8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26018-1967-45D7-85B0-9947372E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504F7-DE1F-4D69-979F-DD6BE4F1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6E46B-4E49-488A-B5E7-F017FF01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07DFE-E920-4F04-BAAF-BB49B13E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AC21D-02F8-4D79-AD6D-8A111BCF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8F901-1821-4FB7-90C4-E017F413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7D9D0-AA37-4641-ACD8-BA70EE81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181-3DF7-4135-9CE2-379DE8E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72918-230C-434F-BDE7-CE946B8A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D9D20-76DF-4DB5-A0D6-3890A0BC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8194-D4AD-49F6-ACEE-4E207556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01D82-DDF2-4EC7-8141-C8A20B76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FF1D6-98A3-4058-813A-1A8D5D3B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E6C21-E59C-4A40-95FC-32237CCF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70D19-9B53-4705-94CA-EF20CC84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B1BCE-D0B9-41B5-BE76-696FEA25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3FBBA-54A9-4F8D-8517-EA49B104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39B9B-1189-4B52-9F7E-15AB34C2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B56-5581-442A-B86D-96A65E87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B783-CAC0-44D7-BCB4-A41B2A53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60FFB-4E88-471A-B61B-3932C81F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B00CE-5DF5-42EE-B35E-164E5F84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34A2D-AD92-4B49-A62C-6D260E86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C27EC-6862-46C3-B3AC-0CCEFBF5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2BF-9C53-4CED-AEC2-B8C89DAE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CFE0-0ADC-4E37-8C12-F2B9050940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0545-D324-4B3F-B8B7-D6C0E7ECA3A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142B-2ED7-4B34-ACB2-11A2612E80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D0CB-22FC-4DE4-BCDB-2478ABA645D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B0C1-4841-40A2-93BD-AC666F0A5D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2B29-4A41-4541-AC53-1775A7C7E1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0FEF-790E-44C2-9DB8-AB3A815234B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" Target="slide6.xml"/><Relationship Id="rId6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" Target="slide6.xml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3.xml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40.xml"/><Relationship Id="rId14" Type="http://schemas.openxmlformats.org/officeDocument/2006/relationships/slide" Target="slide41.xml"/><Relationship Id="rId15" Type="http://schemas.openxmlformats.org/officeDocument/2006/relationships/slide" Target="slide42.xml"/><Relationship Id="rId16" Type="http://schemas.openxmlformats.org/officeDocument/2006/relationships/slide" Target="slide43.xml"/><Relationship Id="rId17" Type="http://schemas.openxmlformats.org/officeDocument/2006/relationships/slide" Target="slide44.xml"/><Relationship Id="rId18" Type="http://schemas.openxmlformats.org/officeDocument/2006/relationships/slide" Target="slide45.xml"/><Relationship Id="rId19" Type="http://schemas.openxmlformats.org/officeDocument/2006/relationships/slide" Target="slide46.xml"/><Relationship Id="rId20" Type="http://schemas.openxmlformats.org/officeDocument/2006/relationships/slide" Target="slide47.xml"/><Relationship Id="rId21" Type="http://schemas.openxmlformats.org/officeDocument/2006/relationships/slide" Target="slide48.xml"/><Relationship Id="rId2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9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2.gi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slide22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5.xml"/><Relationship Id="rId21" Type="http://schemas.openxmlformats.org/officeDocument/2006/relationships/slide" Target="slide26.xml"/><Relationship Id="rId2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23960" y="30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, НАУКИ И МОЛОДЁЖНОЙ ПОЛИТИК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СНОДАРСКОГО КРА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ДАРСКОГО КРА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ОВОРОССИЙСКИЙ КОЛЛЕДЖ РАДИОЭЛЕКТРОННОГО ПРИБОРОСТРО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2400"/>
            </a:br>
            <a:endParaRPr b="0" lang="en-US" sz="1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166480" y="4210200"/>
            <a:ext cx="6147000" cy="21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 подготовил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 математик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КК «НКРП»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волоцкая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.Н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020 г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1"/>
          <p:cNvSpPr/>
          <p:nvPr/>
        </p:nvSpPr>
        <p:spPr>
          <a:xfrm>
            <a:off x="1685880" y="2030400"/>
            <a:ext cx="66740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СВОЯ ИГР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мка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Y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онального чемпиона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ниор Профи-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рского края в 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од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февра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>
            <a:hlinkClick r:id="rId1" action="ppaction://hlinksldjump"/>
          </p:cNvPr>
          <p:cNvSpPr/>
          <p:nvPr/>
        </p:nvSpPr>
        <p:spPr>
          <a:xfrm>
            <a:off x="250920" y="981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Один мальчик охотился на кухне на тараканов и убил пятерых, а ранил в три раза больше. Трех тараканов мальчик ранил смертельно и они погибли от ран. А остальные тараканы выздоровели, но обиделись на мальчика и навсегда ушли к соседям. Сколько тараканов ушло к соседям навсегд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4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58" name="Oval 5"/>
          <p:cNvSpPr/>
          <p:nvPr/>
        </p:nvSpPr>
        <p:spPr>
          <a:xfrm>
            <a:off x="7999560" y="422280"/>
            <a:ext cx="66168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>
            <a:hlinkClick r:id="" action="ppaction://hlinkshowjump?jump=nextslide"/>
          </p:cNvPr>
          <p:cNvSpPr/>
          <p:nvPr/>
        </p:nvSpPr>
        <p:spPr>
          <a:xfrm>
            <a:off x="426960" y="26496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Вопрос - аукцион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415800" y="1353960"/>
            <a:ext cx="8356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Коле и Толе купили по 5 пирожных. Коля съел свои за 6 минут и стал сходить с ума от зависти, глядя, как Толя ест каждое пирожное по 4 минуты. Долго ли будет сходить с ума от зависти Кол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8120160" y="361800"/>
            <a:ext cx="66204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>
            <a:hlinkClick r:id="rId1" action="ppaction://hlinksldjump"/>
          </p:cNvPr>
          <p:cNvSpPr/>
          <p:nvPr/>
        </p:nvSpPr>
        <p:spPr>
          <a:xfrm>
            <a:off x="1504800" y="2046240"/>
            <a:ext cx="66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32d47"/>
                </a:solidFill>
                <a:latin typeface="Times New Roman"/>
              </a:rPr>
              <a:t>Сколько тупых углов в квадрате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65" name="Oval 4"/>
          <p:cNvSpPr/>
          <p:nvPr/>
        </p:nvSpPr>
        <p:spPr>
          <a:xfrm>
            <a:off x="7639200" y="84312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>
            <a:hlinkClick r:id="rId1" action="ppaction://hlinksldjump"/>
          </p:cNvPr>
          <p:cNvSpPr/>
          <p:nvPr/>
        </p:nvSpPr>
        <p:spPr>
          <a:xfrm>
            <a:off x="243000" y="102384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В древности такого термина не было. Его ввел в 17 веке французский математик Франсуа Виет. В переводе с латинского он означает «спица колеса». Что это?</a:t>
            </a: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68" name="Oval 4"/>
          <p:cNvSpPr/>
          <p:nvPr/>
        </p:nvSpPr>
        <p:spPr>
          <a:xfrm>
            <a:off x="7878600" y="482760"/>
            <a:ext cx="66204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>
            <a:hlinkClick r:id="rId1" action="ppaction://hlinksldjump"/>
          </p:cNvPr>
          <p:cNvSpPr/>
          <p:nvPr/>
        </p:nvSpPr>
        <p:spPr>
          <a:xfrm>
            <a:off x="1685880" y="1925640"/>
            <a:ext cx="6305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Сколько сторон имеет развернутый угол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71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>
            <a:hlinkClick r:id="rId1" action="ppaction://hlinksldjump"/>
          </p:cNvPr>
          <p:cNvSpPr/>
          <p:nvPr/>
        </p:nvSpPr>
        <p:spPr>
          <a:xfrm>
            <a:off x="303120" y="1384200"/>
            <a:ext cx="8640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Чтоб окружность верно сче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Надо только постаратьс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И запомнить все как ес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Три – четырнадцать – пятнадцать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Девяносто два и шес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О чем ре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8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74" name="Oval 10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>
            <a:hlinkClick r:id="rId1" action="ppaction://hlinksldjump"/>
          </p:cNvPr>
          <p:cNvSpPr/>
          <p:nvPr/>
        </p:nvSpPr>
        <p:spPr>
          <a:xfrm>
            <a:off x="22320" y="52236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т в мешке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14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j0346659"/>
          <p:cNvPicPr/>
          <p:nvPr/>
        </p:nvPicPr>
        <p:blipFill>
          <a:blip r:embed="rId4"/>
          <a:stretch/>
        </p:blipFill>
        <p:spPr>
          <a:xfrm>
            <a:off x="3570120" y="1233360"/>
            <a:ext cx="1544760" cy="17146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6">
            <a:hlinkClick r:id="rId5" action="ppaction://hlinksldjump"/>
          </p:cNvPr>
          <p:cNvSpPr/>
          <p:nvPr/>
        </p:nvSpPr>
        <p:spPr>
          <a:xfrm>
            <a:off x="271440" y="298944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В каждом из четырех углов комнаты сидит кошка. Напротив каждой из этих кошек сидят три кошки. Сколько всего в этой комнате коше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18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2046240" y="1925640"/>
                <a:ext cx="511164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Picture 5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83" name="Oval 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>
            <a:hlinkClick r:id="rId1" action="ppaction://hlinksldjump"/>
          </p:cNvPr>
          <p:cNvSpPr/>
          <p:nvPr/>
        </p:nvSpPr>
        <p:spPr>
          <a:xfrm>
            <a:off x="250920" y="1484280"/>
            <a:ext cx="864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5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87" name="Oval 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ямоугольник 1"/>
          <p:cNvSpPr/>
          <p:nvPr/>
        </p:nvSpPr>
        <p:spPr>
          <a:xfrm>
            <a:off x="404640" y="1685880"/>
            <a:ext cx="7877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На столе лежит 1 апельсин. Его разрезали на 2 части, сколько апельсинов лежит на столе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>
            <a:hlinkClick r:id="rId1" action="ppaction://hlinksldjump"/>
          </p:cNvPr>
          <p:cNvSpPr/>
          <p:nvPr/>
        </p:nvSpPr>
        <p:spPr>
          <a:xfrm>
            <a:off x="250920" y="148428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Один оборот вокруг Земли спутник делает за 1 час 40 минут, а другой за 100 минут. Как такое может быть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5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92" name="Oval 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своя игра загл"/>
          <p:cNvPicPr/>
          <p:nvPr/>
        </p:nvPicPr>
        <p:blipFill>
          <a:blip r:embed="rId1"/>
          <a:stretch/>
        </p:blipFill>
        <p:spPr>
          <a:xfrm>
            <a:off x="0" y="-343080"/>
            <a:ext cx="9144000" cy="7201080"/>
          </a:xfrm>
          <a:prstGeom prst="rect">
            <a:avLst/>
          </a:prstGeom>
          <a:ln w="0">
            <a:noFill/>
          </a:ln>
        </p:spPr>
      </p:pic>
      <p:sp>
        <p:nvSpPr>
          <p:cNvPr id="329" name="WordArt 3"/>
          <p:cNvSpPr txBox="1"/>
          <p:nvPr/>
        </p:nvSpPr>
        <p:spPr>
          <a:xfrm>
            <a:off x="784080" y="422280"/>
            <a:ext cx="70344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>
            <a:hlinkClick r:id="rId1" action="ppaction://hlinksldjump"/>
          </p:cNvPr>
          <p:cNvSpPr/>
          <p:nvPr/>
        </p:nvSpPr>
        <p:spPr>
          <a:xfrm>
            <a:off x="176040" y="2346480"/>
            <a:ext cx="864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3,2 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∙ 0,0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95" name="Oval 4"/>
          <p:cNvSpPr/>
          <p:nvPr/>
        </p:nvSpPr>
        <p:spPr>
          <a:xfrm>
            <a:off x="7639200" y="84312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>
            <a:hlinkClick r:id="" action="ppaction://hlinkshowjump?jump=nextslide"/>
          </p:cNvPr>
          <p:cNvSpPr/>
          <p:nvPr/>
        </p:nvSpPr>
        <p:spPr>
          <a:xfrm>
            <a:off x="250920" y="148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Вопрос - аукцио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4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>
            <a:hlinkClick r:id="rId3" action="ppaction://hlinksldjump"/>
          </p:cNvPr>
          <p:cNvSpPr/>
          <p:nvPr/>
        </p:nvSpPr>
        <p:spPr>
          <a:xfrm>
            <a:off x="1325520" y="3489480"/>
            <a:ext cx="667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8</a:t>
            </a:r>
            <a:r>
              <a:rPr b="1" lang="ru-RU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·</a:t>
            </a:r>
            <a:r>
              <a:rPr b="1" lang="ru-RU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125</a:t>
            </a:r>
            <a:r>
              <a:rPr b="1" lang="ru-RU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·</a:t>
            </a:r>
            <a:r>
              <a:rPr b="1" lang="ru-RU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5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>
            <a:hlinkClick r:id="rId1" action="ppaction://hlinksldjump"/>
          </p:cNvPr>
          <p:cNvSpPr/>
          <p:nvPr/>
        </p:nvSpPr>
        <p:spPr>
          <a:xfrm>
            <a:off x="1386000" y="1625760"/>
            <a:ext cx="7207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Груша тяжелее, чем яблоко. А яблоко тяжелее персика. Что тяжелее груша или перси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02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>
            <a:hlinkClick r:id="rId1" action="ppaction://hlinksldjump"/>
          </p:cNvPr>
          <p:cNvSpPr/>
          <p:nvPr/>
        </p:nvSpPr>
        <p:spPr>
          <a:xfrm>
            <a:off x="844560" y="963720"/>
            <a:ext cx="7678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Если бы завтрашний день был вчерашним, то до воскресенья осталось бы столько дней, сколько дней прошло от воскресенья до вчерашнего дня. Какой же сегодня ден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05" name="Oval 4"/>
          <p:cNvSpPr/>
          <p:nvPr/>
        </p:nvSpPr>
        <p:spPr>
          <a:xfrm>
            <a:off x="7939080" y="422280"/>
            <a:ext cx="66204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8"/>
          <p:cNvSpPr/>
          <p:nvPr/>
        </p:nvSpPr>
        <p:spPr>
          <a:xfrm>
            <a:off x="363600" y="4511520"/>
            <a:ext cx="847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25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08" name="Oval 2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1"/>
          <p:cNvSpPr/>
          <p:nvPr/>
        </p:nvSpPr>
        <p:spPr>
          <a:xfrm>
            <a:off x="363600" y="2081160"/>
            <a:ext cx="793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асиного отца зовут Иван Николаевич, а дедушку - Семен Петрович. Какое отчество у Васиной мамы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>
            <a:hlinkClick r:id="rId1" action="ppaction://hlinksldjump"/>
          </p:cNvPr>
          <p:cNvSpPr/>
          <p:nvPr/>
        </p:nvSpPr>
        <p:spPr>
          <a:xfrm>
            <a:off x="963720" y="1263600"/>
            <a:ext cx="750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Два мальчика играли на гитарах, а один на балалайке. На чем играл Юра, если Миша с Петей и Петя с Юрой играли на разных инструментах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12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>
            <a:hlinkClick r:id="rId1" action="ppaction://hlinksldjump"/>
          </p:cNvPr>
          <p:cNvSpPr/>
          <p:nvPr/>
        </p:nvSpPr>
        <p:spPr>
          <a:xfrm>
            <a:off x="303120" y="36180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4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j0346659"/>
          <p:cNvPicPr/>
          <p:nvPr/>
        </p:nvPicPr>
        <p:blipFill>
          <a:blip r:embed="rId4"/>
          <a:stretch/>
        </p:blipFill>
        <p:spPr>
          <a:xfrm>
            <a:off x="3610080" y="1504800"/>
            <a:ext cx="1544400" cy="1714680"/>
          </a:xfrm>
          <a:prstGeom prst="rect">
            <a:avLst/>
          </a:prstGeom>
          <a:ln w="0">
            <a:noFill/>
          </a:ln>
        </p:spPr>
      </p:pic>
      <p:sp>
        <p:nvSpPr>
          <p:cNvPr id="416" name="Oval 8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Прямоугольник 1"/>
          <p:cNvSpPr/>
          <p:nvPr/>
        </p:nvSpPr>
        <p:spPr>
          <a:xfrm>
            <a:off x="735120" y="4151160"/>
            <a:ext cx="796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колько месяцев в год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имеют 28 дней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6"/>
          <p:cNvSpPr txBox="1"/>
          <p:nvPr/>
        </p:nvSpPr>
        <p:spPr>
          <a:xfrm rot="21435600">
            <a:off x="1080720" y="369360"/>
            <a:ext cx="720108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2 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62">
            <a:hlinkClick r:id="rId1" action="ppaction://hlinksldjump"/>
          </p:cNvPr>
          <p:cNvSpPr/>
          <p:nvPr/>
        </p:nvSpPr>
        <p:spPr>
          <a:xfrm>
            <a:off x="6012000" y="6308640"/>
            <a:ext cx="3132000" cy="549360"/>
          </a:xfrm>
          <a:custGeom>
            <a:avLst/>
            <a:gdLst>
              <a:gd name="textAreaLeft" fmla="*/ 35280 w 3132000"/>
              <a:gd name="textAreaRight" fmla="*/ 3096720 w 31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123079" h="21600">
                <a:moveTo>
                  <a:pt x="0" y="0"/>
                </a:moveTo>
                <a:lnTo>
                  <a:pt x="123079" y="0"/>
                </a:lnTo>
                <a:lnTo>
                  <a:pt x="123079" y="21600"/>
                </a:lnTo>
                <a:lnTo>
                  <a:pt x="0" y="21600"/>
                </a:lnTo>
                <a:close/>
              </a:path>
              <a:path fill="lightenLess" w="123079" h="21600">
                <a:moveTo>
                  <a:pt x="0" y="0"/>
                </a:moveTo>
                <a:lnTo>
                  <a:pt x="123079" y="0"/>
                </a:lnTo>
                <a:lnTo>
                  <a:pt x="121679" y="1400"/>
                </a:lnTo>
                <a:lnTo>
                  <a:pt x="1400" y="1400"/>
                </a:lnTo>
                <a:close/>
              </a:path>
              <a:path fill="darken" w="123079" h="21600">
                <a:moveTo>
                  <a:pt x="123079" y="0"/>
                </a:moveTo>
                <a:lnTo>
                  <a:pt x="123079" y="21600"/>
                </a:lnTo>
                <a:lnTo>
                  <a:pt x="121679" y="20200"/>
                </a:lnTo>
                <a:lnTo>
                  <a:pt x="121679" y="1400"/>
                </a:lnTo>
                <a:close/>
              </a:path>
              <a:path fill="darkenLess" w="123079" h="21600">
                <a:moveTo>
                  <a:pt x="123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679" y="20200"/>
                </a:lnTo>
                <a:close/>
              </a:path>
              <a:path fill="lighten" w="123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Финальный т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03120" y="843120"/>
          <a:ext cx="8537760" cy="3608280"/>
        </p:xfrm>
        <a:graphic>
          <a:graphicData uri="http://schemas.openxmlformats.org/drawingml/2006/table">
            <a:tbl>
              <a:tblPr/>
              <a:tblGrid>
                <a:gridCol w="3265560"/>
                <a:gridCol w="1050840"/>
                <a:gridCol w="1055880"/>
                <a:gridCol w="1055520"/>
                <a:gridCol w="1054080"/>
                <a:gridCol w="105588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Музык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исл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Многоугольник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равнения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>
            <a:hlinkClick r:id="rId1" action="ppaction://hlinksldjump"/>
          </p:cNvPr>
          <p:cNvSpPr/>
          <p:nvPr/>
        </p:nvSpPr>
        <p:spPr>
          <a:xfrm>
            <a:off x="1746360" y="1805040"/>
            <a:ext cx="589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Какими двумя нотами измеряется морской путь?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23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423720" y="243000"/>
            <a:ext cx="8477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itz Quadrata Cyrillic"/>
              </a:rPr>
              <a:t>Правила игр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В игре принимают участие 2 команды по 4 человека. Задача каждой команды набрать как можно большее количество баллов. Для этого необходимо правильно ответить на вопросы 2-х отборочных туров . В финальной игре  необходимо не только правильно ответить, но и сделать большую ставку на свой отв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	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В отборочных турах каждый вопрос имеет свою стоимость, на обдумывание дается одна минута, отвечает та команда, которая быстрее поднимет руку. Если команда ответила правильно, то она выбирает следующий вопрос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На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ambria"/>
                <a:ea typeface="Cambria"/>
              </a:rPr>
              <a:t>вопрос – аукцион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Cambria"/>
              </a:rPr>
              <a:t>  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право ответа имеет та команда, которая назначит большую сумму, если на счету игроков сумма, меньшая чем стоимость вопроса, то они могут предложить только номинал (стоимость вопроса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На вопрос </a:t>
            </a:r>
            <a:r>
              <a:rPr b="1" lang="ru-RU" sz="2000" spc="-1" strike="noStrike" u="sng">
                <a:solidFill>
                  <a:srgbClr val="3b1d15"/>
                </a:solidFill>
                <a:uFillTx/>
                <a:latin typeface="Cambria"/>
                <a:ea typeface="Cambria"/>
              </a:rPr>
              <a:t>кот в мешке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 отвечает та команда, которой отдает это право команда, выбравшая вопро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	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Если команда отвечает правильно –  баллы прибавляются, если неправильно – вычитаю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>
            <a:hlinkClick r:id="rId1" action="ppaction://hlinksldjump"/>
          </p:cNvPr>
          <p:cNvSpPr/>
          <p:nvPr/>
        </p:nvSpPr>
        <p:spPr>
          <a:xfrm>
            <a:off x="1444680" y="1805040"/>
            <a:ext cx="6305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Какие ноты при соединении обозначают только часть чего-либо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26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>
            <a:hlinkClick r:id="rId1" action="ppaction://hlinksldjump"/>
          </p:cNvPr>
          <p:cNvSpPr/>
          <p:nvPr/>
        </p:nvSpPr>
        <p:spPr>
          <a:xfrm>
            <a:off x="1925640" y="2166840"/>
            <a:ext cx="517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Из каких нот можно составить овощ?</a:t>
            </a:r>
            <a:r>
              <a:rPr b="0" lang="ru-RU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6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29" name="Oval 8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>
            <a:hlinkClick r:id="" action="ppaction://hlinkshowjump?jump=nextslide"/>
          </p:cNvPr>
          <p:cNvSpPr/>
          <p:nvPr/>
        </p:nvSpPr>
        <p:spPr>
          <a:xfrm>
            <a:off x="250920" y="1484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– аукцион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3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4">
            <a:hlinkClick r:id="rId3" action="ppaction://hlinksldjump"/>
          </p:cNvPr>
          <p:cNvSpPr/>
          <p:nvPr/>
        </p:nvSpPr>
        <p:spPr>
          <a:xfrm>
            <a:off x="723960" y="2766960"/>
            <a:ext cx="799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Песня о естественном спутнике Земли голубого цве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>
            <a:hlinkClick r:id="rId1" action="ppaction://hlinksldjump"/>
          </p:cNvPr>
          <p:cNvSpPr/>
          <p:nvPr/>
        </p:nvSpPr>
        <p:spPr>
          <a:xfrm>
            <a:off x="1504800" y="1805040"/>
            <a:ext cx="6545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Песня о двух агрегатных состояниях воды, одно из которых привело к гибели Титаника.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36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>
            <a:hlinkClick r:id="rId1" action="ppaction://hlinksldjump"/>
          </p:cNvPr>
          <p:cNvSpPr/>
          <p:nvPr/>
        </p:nvSpPr>
        <p:spPr>
          <a:xfrm>
            <a:off x="1986120" y="1625760"/>
            <a:ext cx="541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Эти числа появились в связи с необходимостью подсчета предмет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39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>
            <a:hlinkClick r:id="rId1" action="ppaction://hlinksldjump"/>
          </p:cNvPr>
          <p:cNvSpPr/>
          <p:nvPr/>
        </p:nvSpPr>
        <p:spPr>
          <a:xfrm>
            <a:off x="1746360" y="1444680"/>
            <a:ext cx="5651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Что можно сказать о числах, которые оканчиваются нулем или четной цифрой?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42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>
            <a:hlinkClick r:id="rId1" action="ppaction://hlinksldjump"/>
          </p:cNvPr>
          <p:cNvSpPr/>
          <p:nvPr/>
        </p:nvSpPr>
        <p:spPr>
          <a:xfrm>
            <a:off x="1386000" y="657360"/>
            <a:ext cx="60055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Если число неизвестно, то, скорее всего его напишут именно так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Ответьте: ка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45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>
            <a:hlinkClick r:id="rId1" action="ppaction://hlinksldjump"/>
          </p:cNvPr>
          <p:cNvSpPr/>
          <p:nvPr/>
        </p:nvSpPr>
        <p:spPr>
          <a:xfrm>
            <a:off x="465120" y="1925640"/>
            <a:ext cx="7755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 сколько раз увеличится число, если приписать к нему такую же цифру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48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>
            <a:hlinkClick r:id="rId1" action="ppaction://hlinksldjump"/>
          </p:cNvPr>
          <p:cNvSpPr/>
          <p:nvPr/>
        </p:nvSpPr>
        <p:spPr>
          <a:xfrm>
            <a:off x="905040" y="1084320"/>
            <a:ext cx="714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амое меньшее натуральное число известно, а самого большого нет. Этот знак помогает обозначить сложившуюся ситуацию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8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51" name="Oval 10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>
            <a:hlinkClick r:id="rId1" action="ppaction://hlinksldjump"/>
          </p:cNvPr>
          <p:cNvSpPr/>
          <p:nvPr/>
        </p:nvSpPr>
        <p:spPr>
          <a:xfrm>
            <a:off x="1055520" y="2106720"/>
            <a:ext cx="739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03e00"/>
                </a:solidFill>
                <a:latin typeface="Times New Roman"/>
                <a:ea typeface="Times New Roman"/>
              </a:rPr>
              <a:t>Какой многоугольник называют правильным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54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0" y="260280"/>
            <a:ext cx="451152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skerville Win95BT"/>
              </a:rPr>
              <a:t>1-й ту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Тем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Д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линии. Фигу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Считаю уст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Лог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535640" y="260280"/>
            <a:ext cx="490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skerville Win95BT"/>
              </a:rPr>
              <a:t>2-й ту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Тем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Музы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Чи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Многоугольн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16"/>
          <p:cNvGrpSpPr/>
          <p:nvPr/>
        </p:nvGrpSpPr>
        <p:grpSpPr>
          <a:xfrm>
            <a:off x="0" y="2997360"/>
            <a:ext cx="9144000" cy="571320"/>
            <a:chOff x="0" y="2997360"/>
            <a:chExt cx="9144000" cy="571320"/>
          </a:xfrm>
        </p:grpSpPr>
        <p:pic>
          <p:nvPicPr>
            <p:cNvPr id="334" name="Picture 13" descr="blebannd"/>
            <p:cNvPicPr/>
            <p:nvPr/>
          </p:nvPicPr>
          <p:blipFill>
            <a:blip r:embed="rId1"/>
            <a:stretch/>
          </p:blipFill>
          <p:spPr>
            <a:xfrm>
              <a:off x="0" y="2997360"/>
              <a:ext cx="43560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5" descr="blebannd"/>
            <p:cNvPicPr/>
            <p:nvPr/>
          </p:nvPicPr>
          <p:blipFill>
            <a:blip r:embed="rId2"/>
            <a:stretch/>
          </p:blipFill>
          <p:spPr>
            <a:xfrm flipH="1">
              <a:off x="4356000" y="2997360"/>
              <a:ext cx="478800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Group 17"/>
          <p:cNvGrpSpPr/>
          <p:nvPr/>
        </p:nvGrpSpPr>
        <p:grpSpPr>
          <a:xfrm>
            <a:off x="0" y="0"/>
            <a:ext cx="9144000" cy="571680"/>
            <a:chOff x="0" y="0"/>
            <a:chExt cx="9144000" cy="571680"/>
          </a:xfrm>
        </p:grpSpPr>
        <p:pic>
          <p:nvPicPr>
            <p:cNvPr id="337" name="Picture 18" descr="blebannd"/>
            <p:cNvPicPr/>
            <p:nvPr/>
          </p:nvPicPr>
          <p:blipFill>
            <a:blip r:embed="rId3"/>
            <a:stretch/>
          </p:blipFill>
          <p:spPr>
            <a:xfrm flipH="1" rot="10800000">
              <a:off x="0" y="0"/>
              <a:ext cx="4356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19" descr="blebannd"/>
            <p:cNvPicPr/>
            <p:nvPr/>
          </p:nvPicPr>
          <p:blipFill>
            <a:blip r:embed="rId4"/>
            <a:stretch/>
          </p:blipFill>
          <p:spPr>
            <a:xfrm rot="10800000">
              <a:off x="4356000" y="0"/>
              <a:ext cx="478800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Text Box 20"/>
          <p:cNvSpPr/>
          <p:nvPr/>
        </p:nvSpPr>
        <p:spPr>
          <a:xfrm>
            <a:off x="1925640" y="4151160"/>
            <a:ext cx="4897440" cy="17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skerville Win95BT"/>
              </a:rPr>
              <a:t>Финальная иг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askerville Win95BT"/>
              </a:rPr>
              <a:t>Шифр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askerville Win95BT"/>
              </a:rPr>
              <a:t>Змей Горыны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askerville Win95BT"/>
              </a:rPr>
              <a:t>Курица и яйц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21" descr="blenavha"/>
          <p:cNvPicPr/>
          <p:nvPr/>
        </p:nvPicPr>
        <p:blipFill>
          <a:blip r:embed="rId5"/>
          <a:stretch/>
        </p:blipFill>
        <p:spPr>
          <a:xfrm>
            <a:off x="3995640" y="189000"/>
            <a:ext cx="5716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2"/>
          <p:cNvGrpSpPr/>
          <p:nvPr/>
        </p:nvGrpSpPr>
        <p:grpSpPr>
          <a:xfrm>
            <a:off x="0" y="6286680"/>
            <a:ext cx="9144000" cy="571320"/>
            <a:chOff x="0" y="6286680"/>
            <a:chExt cx="9144000" cy="571320"/>
          </a:xfrm>
        </p:grpSpPr>
        <p:pic>
          <p:nvPicPr>
            <p:cNvPr id="342" name="Picture 23" descr="blebannd"/>
            <p:cNvPicPr/>
            <p:nvPr/>
          </p:nvPicPr>
          <p:blipFill>
            <a:blip r:embed="rId6"/>
            <a:stretch/>
          </p:blipFill>
          <p:spPr>
            <a:xfrm>
              <a:off x="0" y="6286680"/>
              <a:ext cx="43560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24" descr="blebannd"/>
            <p:cNvPicPr/>
            <p:nvPr/>
          </p:nvPicPr>
          <p:blipFill>
            <a:blip r:embed="rId7"/>
            <a:stretch/>
          </p:blipFill>
          <p:spPr>
            <a:xfrm flipH="1">
              <a:off x="4356000" y="6286680"/>
              <a:ext cx="4788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>
            <a:hlinkClick r:id="" action="ppaction://hlinkshowjump?jump=nextslide"/>
          </p:cNvPr>
          <p:cNvSpPr/>
          <p:nvPr/>
        </p:nvSpPr>
        <p:spPr>
          <a:xfrm>
            <a:off x="243000" y="6634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– аукцион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3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4"/>
          <p:cNvSpPr/>
          <p:nvPr/>
        </p:nvSpPr>
        <p:spPr>
          <a:xfrm>
            <a:off x="1325520" y="2106720"/>
            <a:ext cx="67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 с помощью только одной палочки образовать на столе треугольни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6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542880" y="603360"/>
            <a:ext cx="8058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Название этого четырехугольника происходит от греческого слова, в переводе на русский означающее «столик», от него так же произошло слово – «трапеза».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61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963720" y="963720"/>
            <a:ext cx="732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Термин греческого происхождения, означающий в древности вращающееся тело – веретено, юлу. О какой фигуре идет ре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64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363600" y="1324080"/>
            <a:ext cx="8340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тя и Лёня делают цветник квадратной формы. Петя сказал :«Сделаем так, чтобы сторона нашего квадрата была на 12 м меньше его периметра». Какой будет длина стороны этого цветник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67" name="Oval 5"/>
          <p:cNvSpPr/>
          <p:nvPr/>
        </p:nvSpPr>
        <p:spPr>
          <a:xfrm>
            <a:off x="7819920" y="663480"/>
            <a:ext cx="66204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69" name="Oval 4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Прямоугольник 2"/>
          <p:cNvSpPr/>
          <p:nvPr/>
        </p:nvSpPr>
        <p:spPr>
          <a:xfrm>
            <a:off x="650880" y="517680"/>
            <a:ext cx="7567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корзине было неизвестное количество яблок. Сначала из нее взяли 12 яблок, а потом положили туда 5 яблок. В результате в корзине стало 24 яблока. Сколько яблок было в корзине первоначальн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1084320" y="1144440"/>
            <a:ext cx="721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Бутылка с пробкой стоит 11 рублей. Бутылка на 10 рублей дороже пробки. Сколько стоит пробка?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73" name="Oval 4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4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303120" y="36180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6" descr="j0346659"/>
          <p:cNvPicPr/>
          <p:nvPr/>
        </p:nvPicPr>
        <p:blipFill>
          <a:blip r:embed="rId2"/>
          <a:stretch/>
        </p:blipFill>
        <p:spPr>
          <a:xfrm>
            <a:off x="3610080" y="1504800"/>
            <a:ext cx="1544400" cy="171468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7"/>
          <p:cNvSpPr/>
          <p:nvPr/>
        </p:nvSpPr>
        <p:spPr>
          <a:xfrm>
            <a:off x="723960" y="3549600"/>
            <a:ext cx="7999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Это название происходит от двух латинских слов «дважды» и «секу», буквально «рассекающиеся на две части». О чем идет речь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8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1084320" y="1204920"/>
            <a:ext cx="7026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Этот способ решения уравнения не всегда дает точные значения корней и требует чертежных навыков от решающего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81" name="Oval 4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Picture 5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84" name="Oval 6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Прямоугольник 1"/>
          <p:cNvSpPr/>
          <p:nvPr/>
        </p:nvSpPr>
        <p:spPr>
          <a:xfrm>
            <a:off x="606600" y="1685880"/>
            <a:ext cx="7929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гда моему отцу был 31 год, мне было 8 лет, а теперь отец старше меня вдвое. Сколько мне лет теперь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4"/>
          <p:cNvSpPr txBox="1"/>
          <p:nvPr/>
        </p:nvSpPr>
        <p:spPr>
          <a:xfrm rot="21435600">
            <a:off x="899640" y="188640"/>
            <a:ext cx="72010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Финальны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4"/>
          <p:cNvSpPr txBox="1"/>
          <p:nvPr/>
        </p:nvSpPr>
        <p:spPr>
          <a:xfrm rot="21435600">
            <a:off x="899640" y="188640"/>
            <a:ext cx="72010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1 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8276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Финальный тур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88" name="Picture 6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9"/>
          <p:cNvSpPr/>
          <p:nvPr/>
        </p:nvSpPr>
        <p:spPr>
          <a:xfrm>
            <a:off x="1866960" y="2106720"/>
            <a:ext cx="5014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349"/>
              </a:spcBef>
              <a:buClr>
                <a:srgbClr val="1c4853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c4853"/>
                </a:solidFill>
                <a:latin typeface="Monotype Corsiva"/>
              </a:rPr>
              <a:t>Шифровк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spcBef>
                <a:spcPts val="1349"/>
              </a:spcBef>
              <a:buClr>
                <a:srgbClr val="1c4853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1c4853"/>
                </a:solidFill>
                <a:uFillTx/>
                <a:latin typeface="Monotype Corsiva"/>
              </a:rPr>
              <a:t>Змей Горыны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>
              <a:lnSpc>
                <a:spcPct val="100000"/>
              </a:lnSpc>
              <a:spcBef>
                <a:spcPts val="1349"/>
              </a:spcBef>
              <a:buClr>
                <a:srgbClr val="cc00ff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cc00ff"/>
                </a:solidFill>
                <a:uFillTx/>
                <a:latin typeface="Monotype Corsiva"/>
              </a:rPr>
              <a:t>Курица и яйц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4"/>
          <p:cNvSpPr/>
          <p:nvPr/>
        </p:nvSpPr>
        <p:spPr>
          <a:xfrm>
            <a:off x="1986120" y="603360"/>
            <a:ext cx="52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ff"/>
                </a:solidFill>
                <a:latin typeface="Times New Roman"/>
              </a:rPr>
              <a:t>Расшифруйте слова и назовите лишне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1954080" y="2406600"/>
            <a:ext cx="5143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б  к  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л  о  п  с  о  т  ь  к 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а  т  ч  о  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я м  а  я  п  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7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4"/>
          <p:cNvSpPr/>
          <p:nvPr/>
        </p:nvSpPr>
        <p:spPr>
          <a:xfrm>
            <a:off x="243000" y="482760"/>
            <a:ext cx="8537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Жил-был Змей Горыныч. Он был очень привередлив в еде. Его правая голова не любила фрукты и терпеть не могла котлеты. Его левая голова не переносила груши. На обед подали груши, мороженое и котлеты. Что выберет каждая голова Горыныча на обед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6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541440" y="1625760"/>
            <a:ext cx="793728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Три курицы за три дня несут три яйца. Сколько яиц снесут 12 таких же кур за 12 дней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4"/>
          <p:cNvSpPr/>
          <p:nvPr/>
        </p:nvSpPr>
        <p:spPr>
          <a:xfrm>
            <a:off x="1925640" y="1744560"/>
            <a:ext cx="5170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ff"/>
                </a:solidFill>
                <a:latin typeface="Times New Roman"/>
              </a:rPr>
              <a:t>Подведем итоги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5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99"/>
          <p:cNvPicPr/>
          <p:nvPr/>
        </p:nvPicPr>
        <p:blipFill>
          <a:blip r:embed="rId1"/>
          <a:stretch/>
        </p:blipFill>
        <p:spPr>
          <a:xfrm>
            <a:off x="6796080" y="4030560"/>
            <a:ext cx="1981080" cy="25812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99"/>
          <p:cNvPicPr/>
          <p:nvPr/>
        </p:nvPicPr>
        <p:blipFill>
          <a:blip r:embed="rId2"/>
          <a:stretch/>
        </p:blipFill>
        <p:spPr>
          <a:xfrm>
            <a:off x="243000" y="4091040"/>
            <a:ext cx="1981080" cy="2581200"/>
          </a:xfrm>
          <a:prstGeom prst="rect">
            <a:avLst/>
          </a:prstGeom>
          <a:ln w="0">
            <a:noFill/>
          </a:ln>
        </p:spPr>
      </p:pic>
      <p:sp>
        <p:nvSpPr>
          <p:cNvPr id="501" name="WordArt 5"/>
          <p:cNvSpPr txBox="1"/>
          <p:nvPr/>
        </p:nvSpPr>
        <p:spPr>
          <a:xfrm>
            <a:off x="723960" y="301680"/>
            <a:ext cx="7877160" cy="366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Поздравля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победител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02" name="Picture 6" descr="poke620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09840" y="3970440"/>
            <a:ext cx="2465640" cy="2371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" descr="ЭМБЛЕМА%20СОВЕНОК"/>
          <p:cNvPicPr/>
          <p:nvPr/>
        </p:nvPicPr>
        <p:blipFill>
          <a:blip r:embed="rId5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168">
            <a:hlinkClick r:id="rId1" action="ppaction://hlinksldjump"/>
          </p:cNvPr>
          <p:cNvSpPr/>
          <p:nvPr/>
        </p:nvSpPr>
        <p:spPr>
          <a:xfrm>
            <a:off x="7846920" y="6308640"/>
            <a:ext cx="1297080" cy="549360"/>
          </a:xfrm>
          <a:custGeom>
            <a:avLst/>
            <a:gdLst>
              <a:gd name="textAreaLeft" fmla="*/ 35280 w 1297080"/>
              <a:gd name="textAreaRight" fmla="*/ 1261800 w 1297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0980" h="21600">
                <a:moveTo>
                  <a:pt x="0" y="0"/>
                </a:moveTo>
                <a:lnTo>
                  <a:pt x="50980" y="0"/>
                </a:lnTo>
                <a:lnTo>
                  <a:pt x="50980" y="21600"/>
                </a:lnTo>
                <a:lnTo>
                  <a:pt x="0" y="21600"/>
                </a:lnTo>
                <a:close/>
              </a:path>
              <a:path fill="lightenLess" w="50980" h="21600">
                <a:moveTo>
                  <a:pt x="0" y="0"/>
                </a:moveTo>
                <a:lnTo>
                  <a:pt x="50980" y="0"/>
                </a:lnTo>
                <a:lnTo>
                  <a:pt x="49580" y="1400"/>
                </a:lnTo>
                <a:lnTo>
                  <a:pt x="1400" y="1400"/>
                </a:lnTo>
                <a:close/>
              </a:path>
              <a:path fill="darken" w="50980" h="21600">
                <a:moveTo>
                  <a:pt x="50980" y="0"/>
                </a:moveTo>
                <a:lnTo>
                  <a:pt x="50980" y="21600"/>
                </a:lnTo>
                <a:lnTo>
                  <a:pt x="49580" y="20200"/>
                </a:lnTo>
                <a:lnTo>
                  <a:pt x="49580" y="1400"/>
                </a:lnTo>
                <a:close/>
              </a:path>
              <a:path fill="darkenLess" w="50980" h="21600">
                <a:moveTo>
                  <a:pt x="5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580" y="20200"/>
                </a:lnTo>
                <a:close/>
              </a:path>
              <a:path fill="lighten" w="5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2 т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03120" y="1263600"/>
          <a:ext cx="8597880" cy="3729240"/>
        </p:xfrm>
        <a:graphic>
          <a:graphicData uri="http://schemas.openxmlformats.org/drawingml/2006/table">
            <a:tbl>
              <a:tblPr/>
              <a:tblGrid>
                <a:gridCol w="3102120"/>
                <a:gridCol w="1100160"/>
                <a:gridCol w="1096920"/>
                <a:gridCol w="1101600"/>
                <a:gridCol w="1096920"/>
                <a:gridCol w="1100160"/>
              </a:tblGrid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Дет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898c3"/>
                          </a:solidFill>
                          <a:latin typeface="Times New Roman"/>
                          <a:ea typeface="Times New Roman"/>
                        </a:rPr>
                        <a:t>Линии. Фигуры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66633"/>
                          </a:solidFill>
                          <a:latin typeface="Times New Roman"/>
                          <a:ea typeface="Times New Roman"/>
                        </a:rPr>
                        <a:t>Считаю устно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Логик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>
            <a:hlinkClick r:id="rId1" action="ppaction://hlinksldjump"/>
          </p:cNvPr>
          <p:cNvSpPr/>
          <p:nvPr/>
        </p:nvSpPr>
        <p:spPr>
          <a:xfrm>
            <a:off x="250920" y="148428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1.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В доме 12 чашек и 9 блюдечек. Дети разбили половину чашек и 7 блюдечек. Сколько чашек осталось без блюдечек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49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>
            <a:hlinkClick r:id="rId1" action="ppaction://hlinksldjump"/>
          </p:cNvPr>
          <p:cNvSpPr/>
          <p:nvPr/>
        </p:nvSpPr>
        <p:spPr>
          <a:xfrm>
            <a:off x="243000" y="156528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У старшего брата 2 конфеты, а у младшего 12 конфет. Сколько конфет должен отнять старший у младшего, чтобы справедливость восторжествовала, и между братьями наступило равенство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52" name="Oval 4"/>
          <p:cNvSpPr/>
          <p:nvPr/>
        </p:nvSpPr>
        <p:spPr>
          <a:xfrm>
            <a:off x="7999560" y="30168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>
            <a:hlinkClick r:id="rId1" action="ppaction://hlinksldjump"/>
          </p:cNvPr>
          <p:cNvSpPr/>
          <p:nvPr/>
        </p:nvSpPr>
        <p:spPr>
          <a:xfrm>
            <a:off x="250920" y="907920"/>
            <a:ext cx="8640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Когда младенца Кузю поцарапала кошка, он орал 5 мин, когда его укусила оса, он орал на 3 мин больше. Но, когда собственная мать набросилась на него и начала мыть с мылом, Кузя орал в 2 раза дольше, чем после укуса осы. Мама мыла Кузю 11 минут. Сколько минут орал уже вымытый Кузя?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55" name="Oval 4"/>
          <p:cNvSpPr/>
          <p:nvPr/>
        </p:nvSpPr>
        <p:spPr>
          <a:xfrm>
            <a:off x="8120160" y="361800"/>
            <a:ext cx="66204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0:47:53Z</dcterms:created>
  <dc:creator>Женя</dc:creator>
  <dc:description/>
  <dc:language>en-US</dc:language>
  <cp:lastModifiedBy>Windows User</cp:lastModifiedBy>
  <cp:lastPrinted>2020-02-10T17:10:22Z</cp:lastPrinted>
  <dcterms:modified xsi:type="dcterms:W3CDTF">2020-02-21T16:29:54Z</dcterms:modified>
  <cp:revision>62</cp:revision>
  <dc:subject/>
  <dc:title>Слайд 1</dc:title>
</cp:coreProperties>
</file>